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2B7-7E7A-4918-9868-126EDD4552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24D-A206-4228-BEB5-307E30D1E0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3CF-D40E-4785-A415-3A08CF58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F40-754B-4047-987F-B75DFCE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E49-D0E6-4106-8449-4A5F006D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160-7F43-41D5-9548-5EB407E0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FC32-FC28-409D-8435-C868F5EE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6649-E079-4359-B516-81BCE77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884-62DA-4EDA-866E-26C63CC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BAFA-2391-491B-9F8F-E49AF803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2984-8BEF-48C3-A403-879B9C5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EFE-FCF6-451C-A59F-83E9C06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95F-F70E-42EC-BA99-4AF33E4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5A8-7F62-4C5A-9CE2-67E59E67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909-E5E2-448A-B612-DFE0E03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FD78-F059-42CF-B8DE-DFAC3DC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C122-632C-474A-9325-B5869B9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1E8-78F5-4E3F-80B6-BE764570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9F50-C5D0-434B-860B-2802B2FF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1BF83-181B-4BD7-9D2A-1D104EF1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F1A4E-5DA7-4A96-BC76-E08E52C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1DC71-0F11-4B60-B3D3-72EE8C1A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CC64D-1F41-4CE8-A477-7148F91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92349-3EEE-4451-90B1-AC4CD06C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721-8214-4E1F-96FB-F871B1F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BEC6D-DB6B-4054-BAB2-81C7396A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921BF-7E87-4B04-AD51-6D454A3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8A2CB-D136-4979-99DA-FB83C4A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4794A-86B7-4F3F-AE75-A19E1BAD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35731-F408-4860-8EF2-6C442291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B4590-7203-4316-B8DD-C1F6E64C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001C6-0C0C-4B99-8AB7-5BF41246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6B9-CA04-4F27-A3EF-805DEB4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83C-EB2B-4BDF-9E6A-DF2C0E3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BFC-AC27-45EA-88C6-82C30AC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E30-F2F8-43F9-8D65-2B4C796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E6C-B72C-434B-B9EF-C1F64DA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923-75AB-441E-9E52-254F8EF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f8fa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297fd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7f8fa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297fd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7fd5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DF6-23E0-4247-931D-E405BD0F1D6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297fd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297fd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297fd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f8fa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297fd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7f8fa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297fd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7fd5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8AF6-D2FB-4DB1-995B-EB27ACF55A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297f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f8fa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297fd5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7f8fa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297fd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7fd5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871-E49D-4371-B5DE-EEB731C2FB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971640" y="5005440"/>
            <a:ext cx="8005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Хамитов И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2c62"/>
                </a:solidFill>
                <a:latin typeface="Arial"/>
                <a:ea typeface="Arial"/>
              </a:rPr>
              <a:t>Начальник Управления межгосударственной стандартизации и информатизации РГП «Казахстанский институт стандартизации и сертифик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36400" y="1125360"/>
            <a:ext cx="8231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 ходе работ по систематизации, уточнении информации о МТ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дключении (авторизации) в программный модул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-МТК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нутый угол 12"/>
          <p:cNvSpPr/>
          <p:nvPr/>
        </p:nvSpPr>
        <p:spPr>
          <a:xfrm>
            <a:off x="312840" y="1276200"/>
            <a:ext cx="2890800" cy="1206720"/>
          </a:xfrm>
          <a:prstGeom prst="foldedCorner">
            <a:avLst>
              <a:gd name="adj" fmla="val 16666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728640" y="636480"/>
            <a:ext cx="7489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Протокольные решения МГС 46-20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Стрелка вправо 5"/>
          <p:cNvSpPr/>
          <p:nvPr/>
        </p:nvSpPr>
        <p:spPr>
          <a:xfrm>
            <a:off x="3357720" y="1585800"/>
            <a:ext cx="1247760" cy="474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2f2f2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3309840" y="1365120"/>
            <a:ext cx="12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ункт 10.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301680" y="1414440"/>
            <a:ext cx="294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степени участия (активный член/наблюдатель) государств и организаций в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Скругленный прямоугольник 13"/>
          <p:cNvSpPr/>
          <p:nvPr/>
        </p:nvSpPr>
        <p:spPr>
          <a:xfrm>
            <a:off x="4751280" y="1276200"/>
            <a:ext cx="4014720" cy="1206720"/>
          </a:xfrm>
          <a:prstGeom prst="roundRect">
            <a:avLst>
              <a:gd name="adj" fmla="val 16667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14"/>
          <p:cNvSpPr/>
          <p:nvPr/>
        </p:nvSpPr>
        <p:spPr>
          <a:xfrm>
            <a:off x="4605480" y="1293840"/>
            <a:ext cx="4305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ить НОС до 01.03.2015 г. завершить работу по размещению в программном модуле «е-МТК» информации об организациях и специалистах, представляющих государство в МТК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Загнутый угол 15"/>
          <p:cNvSpPr/>
          <p:nvPr/>
        </p:nvSpPr>
        <p:spPr>
          <a:xfrm>
            <a:off x="325440" y="2647800"/>
            <a:ext cx="2892600" cy="1068480"/>
          </a:xfrm>
          <a:prstGeom prst="foldedCorner">
            <a:avLst>
              <a:gd name="adj" fmla="val 16666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Прямоугольник 16"/>
          <p:cNvSpPr/>
          <p:nvPr/>
        </p:nvSpPr>
        <p:spPr>
          <a:xfrm>
            <a:off x="316080" y="2744640"/>
            <a:ext cx="290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гистрация, авторизация МТК и внесение данных по МТК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3218040" y="2741760"/>
            <a:ext cx="14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ункт 10.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Скругленный прямоугольник 19"/>
          <p:cNvSpPr/>
          <p:nvPr/>
        </p:nvSpPr>
        <p:spPr>
          <a:xfrm>
            <a:off x="4743360" y="2597040"/>
            <a:ext cx="4014720" cy="1170000"/>
          </a:xfrm>
          <a:prstGeom prst="roundRect">
            <a:avLst>
              <a:gd name="adj" fmla="val 16667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702320" y="2597040"/>
            <a:ext cx="398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кретариатам МТК завершить до 01.03.2015 г. регистрацию, авторизацию МТК и внесению данных по МТК в соответствии с реквизитами программного модуля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Загнутый угол 16"/>
          <p:cNvSpPr/>
          <p:nvPr/>
        </p:nvSpPr>
        <p:spPr>
          <a:xfrm>
            <a:off x="333360" y="3914640"/>
            <a:ext cx="2870280" cy="876600"/>
          </a:xfrm>
          <a:prstGeom prst="foldedCorner">
            <a:avLst>
              <a:gd name="adj" fmla="val 16666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301680" y="4041720"/>
            <a:ext cx="290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нализ полноты внесенных данных о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3279600" y="3967200"/>
            <a:ext cx="14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ункт 10.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Стрелка вправо 22"/>
          <p:cNvSpPr/>
          <p:nvPr/>
        </p:nvSpPr>
        <p:spPr>
          <a:xfrm>
            <a:off x="3343320" y="2944800"/>
            <a:ext cx="1247760" cy="474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2f2f2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Стрелка вправо 23"/>
          <p:cNvSpPr/>
          <p:nvPr/>
        </p:nvSpPr>
        <p:spPr>
          <a:xfrm>
            <a:off x="3381480" y="4224240"/>
            <a:ext cx="1247760" cy="474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2f2f2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Скругленный прямоугольник 24"/>
          <p:cNvSpPr/>
          <p:nvPr/>
        </p:nvSpPr>
        <p:spPr>
          <a:xfrm>
            <a:off x="4762440" y="3914640"/>
            <a:ext cx="4037040" cy="2706840"/>
          </a:xfrm>
          <a:prstGeom prst="roundRect">
            <a:avLst>
              <a:gd name="adj" fmla="val 16667"/>
            </a:avLst>
          </a:prstGeom>
          <a:solidFill>
            <a:srgbClr val="accbf9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Прямоугольник 20"/>
          <p:cNvSpPr/>
          <p:nvPr/>
        </p:nvSpPr>
        <p:spPr>
          <a:xfrm>
            <a:off x="4762440" y="3933720"/>
            <a:ext cx="3983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ить Госстандарт Республики Казахстан совместно с Госстандартом Республики Беларусь провести анализ полноты всех внесенных в базу данных МТК программного модуля «е-МТК» сведений, в том числе, на предмет наличия в МТК достаточного количества государств-участников Соглашения, входящих в состав МТК, информации об области деятельности МТК, наличия организаций, представляющих государство в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814320" y="5062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Блок-схема: процесс 6"/>
          <p:cNvSpPr/>
          <p:nvPr/>
        </p:nvSpPr>
        <p:spPr>
          <a:xfrm>
            <a:off x="617400" y="2538360"/>
            <a:ext cx="2087640" cy="973080"/>
          </a:xfrm>
          <a:prstGeom prst="flowChartProcess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Информация НОС -  274 МТ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Блок-схема: процесс 7"/>
          <p:cNvSpPr/>
          <p:nvPr/>
        </p:nvSpPr>
        <p:spPr>
          <a:xfrm>
            <a:off x="6099120" y="2538360"/>
            <a:ext cx="2087640" cy="746280"/>
          </a:xfrm>
          <a:prstGeom prst="flowChartProcess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  <a:ea typeface="Arial"/>
              </a:rPr>
              <a:t>Прошли регистрацию в Программном модуле «е-МТК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91" name="Соединительная линия уступом 8"/>
          <p:cNvCxnSpPr>
            <a:stCxn id="189" idx="1"/>
            <a:endCxn id="190" idx="3"/>
          </p:cNvCxnSpPr>
          <p:nvPr/>
        </p:nvCxnSpPr>
        <p:spPr>
          <a:xfrm flipH="1" rot="10800000">
            <a:off x="617040" y="2910600"/>
            <a:ext cx="7570080" cy="113760"/>
          </a:xfrm>
          <a:prstGeom prst="bentConnector5">
            <a:avLst>
              <a:gd name="adj1" fmla="val -3015"/>
              <a:gd name="adj2" fmla="val 1331746"/>
              <a:gd name="adj3" fmla="val 107799"/>
            </a:avLst>
          </a:prstGeom>
          <a:ln w="38160">
            <a:solidFill>
              <a:srgbClr val="629dd1"/>
            </a:solidFill>
            <a:miter/>
            <a:tailEnd len="med" type="arrow" w="med"/>
          </a:ln>
        </p:spPr>
      </p:cxnSp>
      <p:pic>
        <p:nvPicPr>
          <p:cNvPr id="192" name="Схема 9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57640" cy="22258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1"/>
          <p:cNvSpPr/>
          <p:nvPr/>
        </p:nvSpPr>
        <p:spPr>
          <a:xfrm>
            <a:off x="3308400" y="998640"/>
            <a:ext cx="2663640" cy="772920"/>
          </a:xfrm>
          <a:prstGeom prst="rect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Указатель МТК (Бюро стандартов МГС) - 28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5513400" y="1995480"/>
            <a:ext cx="2087640" cy="378000"/>
          </a:xfrm>
          <a:prstGeom prst="rect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Расформированные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Стрелка вправо 13"/>
          <p:cNvSpPr/>
          <p:nvPr/>
        </p:nvSpPr>
        <p:spPr>
          <a:xfrm rot="10800000">
            <a:off x="4928760" y="2058480"/>
            <a:ext cx="506520" cy="250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08000" y="4614480"/>
            <a:ext cx="8858160" cy="455400"/>
          </a:xfrm>
          <a:prstGeom prst="flowChartAlternateProcess">
            <a:avLst/>
          </a:prstGeom>
          <a:solidFill>
            <a:srgbClr val="e0ebf6"/>
          </a:solidFill>
          <a:ln w="255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сегодняшний день в программном модуле «е-МТК» прошли регистрацию и авторизацию 153 МТК, из них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Овал 16"/>
          <p:cNvSpPr/>
          <p:nvPr/>
        </p:nvSpPr>
        <p:spPr>
          <a:xfrm>
            <a:off x="2705040" y="5157720"/>
            <a:ext cx="3359160" cy="16290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 – 125 МТК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Овал 17"/>
          <p:cNvSpPr/>
          <p:nvPr/>
        </p:nvSpPr>
        <p:spPr>
          <a:xfrm>
            <a:off x="293760" y="5157720"/>
            <a:ext cx="2735280" cy="16290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Казахстан – 4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Овал 18"/>
          <p:cNvSpPr/>
          <p:nvPr/>
        </p:nvSpPr>
        <p:spPr>
          <a:xfrm>
            <a:off x="5900760" y="5157720"/>
            <a:ext cx="3025800" cy="16290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аина – 24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357120" y="598320"/>
            <a:ext cx="85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Результаты работ по регистрации, авторизации МТ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Стрелка вправо 18"/>
          <p:cNvSpPr/>
          <p:nvPr/>
        </p:nvSpPr>
        <p:spPr>
          <a:xfrm rot="10800000">
            <a:off x="5557320" y="2773080"/>
            <a:ext cx="506520" cy="250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Прямоугольник 24"/>
          <p:cNvSpPr/>
          <p:nvPr/>
        </p:nvSpPr>
        <p:spPr>
          <a:xfrm>
            <a:off x="6948360" y="3454560"/>
            <a:ext cx="1511280" cy="711000"/>
          </a:xfrm>
          <a:prstGeom prst="rect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  <a:ea typeface="Arial"/>
              </a:rPr>
              <a:t>Не прошли регистрацию в «е-МТК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Стрелка вправо 25"/>
          <p:cNvSpPr/>
          <p:nvPr/>
        </p:nvSpPr>
        <p:spPr>
          <a:xfrm rot="10800000">
            <a:off x="6365520" y="3573000"/>
            <a:ext cx="506520" cy="2523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806480" y="141300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информации Росстандарта, по результатам анализа и упорядочивания МТК, секретариаты которых ведет Российская Федерация, подготовлены следующие перечни МТК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05" name="Группа 15"/>
          <p:cNvGrpSpPr/>
          <p:nvPr/>
        </p:nvGrpSpPr>
        <p:grpSpPr>
          <a:xfrm>
            <a:off x="324000" y="1590840"/>
            <a:ext cx="639720" cy="784080"/>
            <a:chOff x="324000" y="1590840"/>
            <a:chExt cx="639720" cy="784080"/>
          </a:xfrm>
        </p:grpSpPr>
        <p:pic>
          <p:nvPicPr>
            <p:cNvPr id="20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1590840"/>
              <a:ext cx="576000" cy="73656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  <p:pic>
          <p:nvPicPr>
            <p:cNvPr id="207" name="Picture 7" descr=""/>
            <p:cNvPicPr/>
            <p:nvPr/>
          </p:nvPicPr>
          <p:blipFill>
            <a:blip r:embed="rId2"/>
            <a:stretch/>
          </p:blipFill>
          <p:spPr>
            <a:xfrm>
              <a:off x="345240" y="1606320"/>
              <a:ext cx="576000" cy="73656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  <p:pic>
          <p:nvPicPr>
            <p:cNvPr id="208" name="Picture 7" descr=""/>
            <p:cNvPicPr/>
            <p:nvPr/>
          </p:nvPicPr>
          <p:blipFill>
            <a:blip r:embed="rId3"/>
            <a:stretch/>
          </p:blipFill>
          <p:spPr>
            <a:xfrm>
              <a:off x="366480" y="1625400"/>
              <a:ext cx="576000" cy="73656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  <p:pic>
          <p:nvPicPr>
            <p:cNvPr id="209" name="Picture 7" descr=""/>
            <p:cNvPicPr/>
            <p:nvPr/>
          </p:nvPicPr>
          <p:blipFill>
            <a:blip r:embed="rId4"/>
            <a:stretch/>
          </p:blipFill>
          <p:spPr>
            <a:xfrm>
              <a:off x="387720" y="1638360"/>
              <a:ext cx="576000" cy="73656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</p:grpSp>
      <p:grpSp>
        <p:nvGrpSpPr>
          <p:cNvPr id="210" name="Группа 16"/>
          <p:cNvGrpSpPr/>
          <p:nvPr/>
        </p:nvGrpSpPr>
        <p:grpSpPr>
          <a:xfrm>
            <a:off x="49680" y="846720"/>
            <a:ext cx="694080" cy="743400"/>
            <a:chOff x="49680" y="846720"/>
            <a:chExt cx="694080" cy="743400"/>
          </a:xfrm>
        </p:grpSpPr>
        <p:pic>
          <p:nvPicPr>
            <p:cNvPr id="211" name="Picture 2" descr=""/>
            <p:cNvPicPr/>
            <p:nvPr/>
          </p:nvPicPr>
          <p:blipFill>
            <a:blip r:embed="rId5"/>
            <a:stretch/>
          </p:blipFill>
          <p:spPr>
            <a:xfrm rot="20299200">
              <a:off x="147240" y="909360"/>
              <a:ext cx="459000" cy="61740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  <p:pic>
          <p:nvPicPr>
            <p:cNvPr id="212" name="Picture 2" descr=""/>
            <p:cNvPicPr/>
            <p:nvPr/>
          </p:nvPicPr>
          <p:blipFill>
            <a:blip r:embed="rId6"/>
            <a:stretch/>
          </p:blipFill>
          <p:spPr>
            <a:xfrm rot="20299200">
              <a:off x="167040" y="909360"/>
              <a:ext cx="459000" cy="61740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  <p:pic>
          <p:nvPicPr>
            <p:cNvPr id="213" name="Picture 2" descr=""/>
            <p:cNvPicPr/>
            <p:nvPr/>
          </p:nvPicPr>
          <p:blipFill>
            <a:blip r:embed="rId7"/>
            <a:stretch/>
          </p:blipFill>
          <p:spPr>
            <a:xfrm rot="20299200">
              <a:off x="186840" y="909360"/>
              <a:ext cx="459000" cy="617400"/>
            </a:xfrm>
            <a:prstGeom prst="rect">
              <a:avLst/>
            </a:prstGeom>
            <a:ln w="9360">
              <a:solidFill>
                <a:srgbClr val="629dd1"/>
              </a:solidFill>
              <a:miter/>
            </a:ln>
          </p:spPr>
        </p:pic>
      </p:grpSp>
      <p:sp>
        <p:nvSpPr>
          <p:cNvPr id="214" name="Скругленная прямоугольная выноска 18"/>
          <p:cNvSpPr/>
          <p:nvPr/>
        </p:nvSpPr>
        <p:spPr>
          <a:xfrm>
            <a:off x="1752480" y="1400040"/>
            <a:ext cx="7051680" cy="738360"/>
          </a:xfrm>
          <a:prstGeom prst="wedgeRoundRectCallout">
            <a:avLst>
              <a:gd name="adj1" fmla="val -59925"/>
              <a:gd name="adj2" fmla="val -3226"/>
              <a:gd name="adj3" fmla="val 16667"/>
            </a:avLst>
          </a:prstGeom>
          <a:noFill/>
          <a:ln w="1260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522360" y="692280"/>
            <a:ext cx="856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Информация по анализу и упорядочиванию МТК, секретариаты которых ведет 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16" name="Прямая со стрелкой 6"/>
          <p:cNvCxnSpPr/>
          <p:nvPr/>
        </p:nvCxnSpPr>
        <p:spPr>
          <a:xfrm flipH="1">
            <a:off x="1867680" y="2174400"/>
            <a:ext cx="467640" cy="27396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7" name="Прямая со стрелкой 8"/>
          <p:cNvCxnSpPr/>
          <p:nvPr/>
        </p:nvCxnSpPr>
        <p:spPr>
          <a:xfrm>
            <a:off x="5824080" y="2152440"/>
            <a:ext cx="1080" cy="28620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8" name="Прямая со стрелкой 10"/>
          <p:cNvCxnSpPr/>
          <p:nvPr/>
        </p:nvCxnSpPr>
        <p:spPr>
          <a:xfrm>
            <a:off x="7785000" y="2174760"/>
            <a:ext cx="310320" cy="20088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9" name="Прямая со стрелкой 28"/>
          <p:cNvCxnSpPr/>
          <p:nvPr/>
        </p:nvCxnSpPr>
        <p:spPr>
          <a:xfrm>
            <a:off x="3730320" y="2174400"/>
            <a:ext cx="1080" cy="29772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arrow" w="med"/>
          </a:ln>
        </p:spPr>
      </p:cxnSp>
      <p:grpSp>
        <p:nvGrpSpPr>
          <p:cNvPr id="220" name="Группа 1"/>
          <p:cNvGrpSpPr/>
          <p:nvPr/>
        </p:nvGrpSpPr>
        <p:grpSpPr>
          <a:xfrm>
            <a:off x="752400" y="2473200"/>
            <a:ext cx="8109000" cy="2963880"/>
            <a:chOff x="752400" y="2473200"/>
            <a:chExt cx="8109000" cy="2963880"/>
          </a:xfrm>
        </p:grpSpPr>
        <p:grpSp>
          <p:nvGrpSpPr>
            <p:cNvPr id="221" name="Полилиния 4"/>
            <p:cNvGrpSpPr/>
            <p:nvPr/>
          </p:nvGrpSpPr>
          <p:grpSpPr>
            <a:xfrm>
              <a:off x="752400" y="2473200"/>
              <a:ext cx="1944720" cy="565200"/>
              <a:chOff x="752400" y="2473200"/>
              <a:chExt cx="1944720" cy="565200"/>
            </a:xfrm>
          </p:grpSpPr>
          <p:pic>
            <p:nvPicPr>
              <p:cNvPr id="222" name="Полилиния 4" descr=""/>
              <p:cNvPicPr/>
              <p:nvPr/>
            </p:nvPicPr>
            <p:blipFill>
              <a:blip r:embed="rId8"/>
              <a:stretch/>
            </p:blipFill>
            <p:spPr>
              <a:xfrm>
                <a:off x="752400" y="2473200"/>
                <a:ext cx="194472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96680" y="2513520"/>
                <a:ext cx="179856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56880" bIns="56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9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24" name="Полилиния 5"/>
            <p:cNvGrpSpPr/>
            <p:nvPr/>
          </p:nvGrpSpPr>
          <p:grpSpPr>
            <a:xfrm>
              <a:off x="758160" y="2894040"/>
              <a:ext cx="1944720" cy="1779840"/>
              <a:chOff x="758160" y="2894040"/>
              <a:chExt cx="1944720" cy="1779840"/>
            </a:xfrm>
          </p:grpSpPr>
          <p:pic>
            <p:nvPicPr>
              <p:cNvPr id="225" name="Полилиния 5" descr=""/>
              <p:cNvPicPr/>
              <p:nvPr/>
            </p:nvPicPr>
            <p:blipFill>
              <a:blip r:embed="rId9"/>
              <a:stretch/>
            </p:blipFill>
            <p:spPr>
              <a:xfrm>
                <a:off x="758160" y="2894040"/>
                <a:ext cx="194472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2440" y="2938680"/>
                <a:ext cx="1798560" cy="16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92520" tIns="69480" bIns="104040" anchor="t">
                <a:noAutofit/>
              </a:bodyPr>
              <a:p>
                <a:pPr lvl="1" algn="ctr">
                  <a:lnSpc>
                    <a:spcPct val="90000"/>
                  </a:lnSpc>
                  <a:spcAft>
                    <a:spcPts val="224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туализированный перечень действующих МТК, ведение секретариатов которых осуществляет Российская Федерация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27" name="Полилиния 11"/>
            <p:cNvGrpSpPr/>
            <p:nvPr/>
          </p:nvGrpSpPr>
          <p:grpSpPr>
            <a:xfrm>
              <a:off x="2733120" y="2473200"/>
              <a:ext cx="2148480" cy="565200"/>
              <a:chOff x="2733120" y="2473200"/>
              <a:chExt cx="2148480" cy="565200"/>
            </a:xfrm>
          </p:grpSpPr>
          <p:pic>
            <p:nvPicPr>
              <p:cNvPr id="228" name="Полилиния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33120" y="2473200"/>
                <a:ext cx="21484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2774160" y="2513520"/>
                <a:ext cx="200268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56880" bIns="56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30" name="Полилиния 12"/>
            <p:cNvGrpSpPr/>
            <p:nvPr/>
          </p:nvGrpSpPr>
          <p:grpSpPr>
            <a:xfrm>
              <a:off x="2733120" y="2894040"/>
              <a:ext cx="2166480" cy="1779840"/>
              <a:chOff x="2733120" y="2894040"/>
              <a:chExt cx="2166480" cy="1779840"/>
            </a:xfrm>
          </p:grpSpPr>
          <p:pic>
            <p:nvPicPr>
              <p:cNvPr id="231" name="Полилиния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33120" y="2894040"/>
                <a:ext cx="21664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2774160" y="2938680"/>
                <a:ext cx="2003040" cy="163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99720" tIns="74520" bIns="111960" anchor="t">
                <a:noAutofit/>
              </a:bodyPr>
              <a:p>
                <a:pPr lvl="1" algn="ctr">
                  <a:lnSpc>
                    <a:spcPct val="90000"/>
                  </a:lnSpc>
                  <a:spcAft>
                    <a:spcPts val="2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kk-KZ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редложения Росстандарта по упразднению МТК, секретариаты которых ведет Российская Федерация, ввиду невостребовательности работ по тематике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33" name="Полилиния 13"/>
            <p:cNvGrpSpPr/>
            <p:nvPr/>
          </p:nvGrpSpPr>
          <p:grpSpPr>
            <a:xfrm>
              <a:off x="4857840" y="2473200"/>
              <a:ext cx="2046600" cy="565200"/>
              <a:chOff x="4857840" y="2473200"/>
              <a:chExt cx="2046600" cy="565200"/>
            </a:xfrm>
          </p:grpSpPr>
          <p:pic>
            <p:nvPicPr>
              <p:cNvPr id="234" name="Полилиния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57840" y="2473200"/>
                <a:ext cx="20466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4897800" y="2513520"/>
                <a:ext cx="190548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56880" bIns="56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36" name="Полилиния 14"/>
            <p:cNvGrpSpPr/>
            <p:nvPr/>
          </p:nvGrpSpPr>
          <p:grpSpPr>
            <a:xfrm>
              <a:off x="4857840" y="2894040"/>
              <a:ext cx="2058480" cy="1779840"/>
              <a:chOff x="4857840" y="2894040"/>
              <a:chExt cx="2058480" cy="1779840"/>
            </a:xfrm>
          </p:grpSpPr>
          <p:pic>
            <p:nvPicPr>
              <p:cNvPr id="237" name="Полилиния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57840" y="2894040"/>
                <a:ext cx="20584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4897440" y="2938680"/>
                <a:ext cx="1905480" cy="163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99720" tIns="74520" bIns="111960" anchor="t">
                <a:noAutofit/>
              </a:bodyPr>
              <a:p>
                <a:pPr lvl="1" algn="ctr">
                  <a:lnSpc>
                    <a:spcPct val="90000"/>
                  </a:lnSpc>
                  <a:spcAft>
                    <a:spcPts val="2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редложения Росстандарта по упразднению МТК, секретариаты которых ведет Российская Федерация, ввиду дублирования их области деятельности с действующими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39" name="Полилиния 15"/>
            <p:cNvGrpSpPr/>
            <p:nvPr/>
          </p:nvGrpSpPr>
          <p:grpSpPr>
            <a:xfrm>
              <a:off x="6904440" y="2473200"/>
              <a:ext cx="1944720" cy="565200"/>
              <a:chOff x="6904440" y="2473200"/>
              <a:chExt cx="1944720" cy="565200"/>
            </a:xfrm>
          </p:grpSpPr>
          <p:pic>
            <p:nvPicPr>
              <p:cNvPr id="240" name="Полилиния 15" descr=""/>
              <p:cNvPicPr/>
              <p:nvPr/>
            </p:nvPicPr>
            <p:blipFill>
              <a:blip r:embed="rId14"/>
              <a:stretch/>
            </p:blipFill>
            <p:spPr>
              <a:xfrm>
                <a:off x="6904440" y="2473200"/>
                <a:ext cx="194472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948000" y="2513520"/>
                <a:ext cx="179856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56880" bIns="56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 МТК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42" name="Полилиния 16"/>
            <p:cNvGrpSpPr/>
            <p:nvPr/>
          </p:nvGrpSpPr>
          <p:grpSpPr>
            <a:xfrm>
              <a:off x="6916680" y="2905920"/>
              <a:ext cx="1944720" cy="1779840"/>
              <a:chOff x="6916680" y="2905920"/>
              <a:chExt cx="1944720" cy="1779840"/>
            </a:xfrm>
          </p:grpSpPr>
          <p:pic>
            <p:nvPicPr>
              <p:cNvPr id="243" name="Полилиния 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16680" y="2905920"/>
                <a:ext cx="194472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6959160" y="2946240"/>
                <a:ext cx="1798560" cy="163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99720" tIns="74520" bIns="111960" anchor="t">
                <a:noAutofit/>
              </a:bodyPr>
              <a:p>
                <a:pPr lvl="1" algn="ctr">
                  <a:lnSpc>
                    <a:spcPct val="90000"/>
                  </a:lnSpc>
                  <a:spcAft>
                    <a:spcPts val="224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редложения Росстандарта по преобразованию отдельных МТК в подкомитеты МТК, секретариаты которых ведет Российская Федерация</a:t>
                </a:r>
                <a:endParaRPr b="0" lang="en-US" sz="12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45" name="Прямоугольник 45"/>
            <p:cNvSpPr/>
            <p:nvPr/>
          </p:nvSpPr>
          <p:spPr>
            <a:xfrm>
              <a:off x="798120" y="4574520"/>
              <a:ext cx="1806120" cy="853200"/>
            </a:xfrm>
            <a:prstGeom prst="rect">
              <a:avLst/>
            </a:prstGeom>
            <a:solidFill>
              <a:srgbClr val="ff6161"/>
            </a:solidFill>
            <a:ln w="19080">
              <a:solidFill>
                <a:srgbClr val="4672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з 169 МТК в программном модуле «е-МТК» зарегистрировано 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8 МТК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Прямоугольник 46"/>
            <p:cNvSpPr/>
            <p:nvPr/>
          </p:nvSpPr>
          <p:spPr>
            <a:xfrm>
              <a:off x="2774520" y="4574520"/>
              <a:ext cx="2002680" cy="853200"/>
            </a:xfrm>
            <a:prstGeom prst="rect">
              <a:avLst/>
            </a:prstGeom>
            <a:solidFill>
              <a:srgbClr val="ff6161"/>
            </a:solidFill>
            <a:ln w="19080">
              <a:solidFill>
                <a:srgbClr val="4672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з 22 МТК в программном модуле «е-МТК» зарегистрировано 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МТК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Прямоугольник 47"/>
            <p:cNvSpPr/>
            <p:nvPr/>
          </p:nvSpPr>
          <p:spPr>
            <a:xfrm>
              <a:off x="4897080" y="4583880"/>
              <a:ext cx="1905840" cy="853200"/>
            </a:xfrm>
            <a:prstGeom prst="rect">
              <a:avLst/>
            </a:prstGeom>
            <a:solidFill>
              <a:srgbClr val="ff6161"/>
            </a:solidFill>
            <a:ln w="19080">
              <a:solidFill>
                <a:srgbClr val="4672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з 5 МТК в программном модуле «е-МТК» зарегистрирован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1 МТК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Прямоугольник 48"/>
            <p:cNvSpPr/>
            <p:nvPr/>
          </p:nvSpPr>
          <p:spPr>
            <a:xfrm>
              <a:off x="6959160" y="4583880"/>
              <a:ext cx="1798200" cy="853200"/>
            </a:xfrm>
            <a:prstGeom prst="rect">
              <a:avLst/>
            </a:prstGeom>
            <a:solidFill>
              <a:srgbClr val="ff6161"/>
            </a:solidFill>
            <a:ln w="19080">
              <a:solidFill>
                <a:srgbClr val="4672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з 5 МТК в программном модуле «е-МТК» зарегистрировано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2 МТК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9" name="AutoShape 3"/>
          <p:cNvSpPr/>
          <p:nvPr/>
        </p:nvSpPr>
        <p:spPr>
          <a:xfrm>
            <a:off x="5029200" y="5626800"/>
            <a:ext cx="3848040" cy="1164600"/>
          </a:xfrm>
          <a:prstGeom prst="flowChartAlternateProcess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255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пункту 9.10 Протокола НТКС 49-2015 Росстандарту поручено в срок до 01.06.2015 г направить в Госстандарт Республики Беларусь актуализированный перечень действующих МТК в формат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актуализации Указателя МТК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758880" y="5609520"/>
            <a:ext cx="3689280" cy="1164600"/>
          </a:xfrm>
          <a:prstGeom prst="flowChartAlternateProcess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255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пунктом 9.9 Протокола НТКС 49-2015 национальным органам поручено рассмотреть данные предложения Росстандарта и до 01.09.2015  сообщить свои предложения о реформировании и упразднении МТК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2" descr=""/>
          <p:cNvPicPr/>
          <p:nvPr/>
        </p:nvPicPr>
        <p:blipFill>
          <a:blip r:embed="rId1"/>
          <a:stretch/>
        </p:blipFill>
        <p:spPr>
          <a:xfrm>
            <a:off x="222120" y="1103400"/>
            <a:ext cx="1209960" cy="120960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D02-CD1A-4DE4-B43C-C5A1442D9CD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623880" y="844560"/>
            <a:ext cx="7781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Результаты заполнений сведений об участии государств в МТ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826920" y="2693520"/>
            <a:ext cx="2592720" cy="1342440"/>
          </a:xfrm>
          <a:prstGeom prst="flowChartAlternateProcess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255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МТК, разместивших информацию об участии в других МТК (из числа прошедших регистрацию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64000" y="3110040"/>
            <a:ext cx="792000" cy="495000"/>
          </a:xfrm>
          <a:prstGeom prst="rightArrow">
            <a:avLst>
              <a:gd name="adj1" fmla="val 50000"/>
              <a:gd name="adj2" fmla="val 23711"/>
            </a:avLst>
          </a:prstGeom>
          <a:gradFill rotWithShape="0">
            <a:gsLst>
              <a:gs pos="0">
                <a:srgbClr val="ffffff"/>
              </a:gs>
              <a:gs pos="100000">
                <a:srgbClr val="2428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4487760" y="2670120"/>
            <a:ext cx="4081680" cy="1482120"/>
          </a:xfrm>
          <a:prstGeom prst="flowChartAlternateProcess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25560">
            <a:solidFill>
              <a:srgbClr val="00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Республика – 3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лдова – 1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Беларусь – 15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Казахстан – 65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 – 8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аина – 6 МТК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Рисунок 3" descr=""/>
          <p:cNvPicPr/>
          <p:nvPr/>
        </p:nvPicPr>
        <p:blipFill>
          <a:blip r:embed="rId2"/>
          <a:stretch/>
        </p:blipFill>
        <p:spPr>
          <a:xfrm>
            <a:off x="7407360" y="5013360"/>
            <a:ext cx="1038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23"/>
          <p:cNvSpPr/>
          <p:nvPr/>
        </p:nvSpPr>
        <p:spPr>
          <a:xfrm>
            <a:off x="307800" y="1855800"/>
            <a:ext cx="8585280" cy="1392120"/>
          </a:xfrm>
          <a:prstGeom prst="rect">
            <a:avLst/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Номер слайда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387-0870-4EBC-8197-66C8A164636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Скругленный прямоугольник 15"/>
          <p:cNvSpPr/>
          <p:nvPr/>
        </p:nvSpPr>
        <p:spPr>
          <a:xfrm>
            <a:off x="355680" y="1897200"/>
            <a:ext cx="8464320" cy="1168200"/>
          </a:xfrm>
          <a:prstGeom prst="roundRect">
            <a:avLst>
              <a:gd name="adj" fmla="val 10000"/>
            </a:avLst>
          </a:prstGeom>
          <a:solidFill>
            <a:srgbClr val="d9d9d9">
              <a:alpha val="90000"/>
            </a:srgbClr>
          </a:solidFill>
          <a:ln w="19080">
            <a:solidFill>
              <a:srgbClr val="d3dfee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олилиния 17"/>
          <p:cNvSpPr/>
          <p:nvPr/>
        </p:nvSpPr>
        <p:spPr>
          <a:xfrm>
            <a:off x="468360" y="2052720"/>
            <a:ext cx="2592360" cy="888840"/>
          </a:xfrm>
          <a:prstGeom prst="pie">
            <a:avLst/>
          </a:prstGeom>
          <a:solidFill>
            <a:srgbClr val="234f7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4640" rIns="134640" tIns="113760" bIns="13464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Результаты анализа МТК на предмет достаточного количества полноправных членов  (не менее 3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3394080" y="3706920"/>
            <a:ext cx="2631960" cy="1797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5c64b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Казахстан – 4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 – 43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аина – 12 МТК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Стрелка вниз 7"/>
          <p:cNvSpPr/>
          <p:nvPr/>
        </p:nvSpPr>
        <p:spPr>
          <a:xfrm>
            <a:off x="4387680" y="2992320"/>
            <a:ext cx="648000" cy="511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1b1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Прямоугольник 22"/>
          <p:cNvSpPr/>
          <p:nvPr/>
        </p:nvSpPr>
        <p:spPr>
          <a:xfrm>
            <a:off x="674640" y="790560"/>
            <a:ext cx="8145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c62"/>
                </a:solidFill>
                <a:latin typeface="Arial"/>
                <a:ea typeface="Arial"/>
              </a:rPr>
              <a:t>Результаты анализа в «е-МТК» по странам              (из числа МТК, прошедших регистрацию – 153 МТ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Стрелка вниз 24"/>
          <p:cNvSpPr/>
          <p:nvPr/>
        </p:nvSpPr>
        <p:spPr>
          <a:xfrm>
            <a:off x="1347840" y="2992320"/>
            <a:ext cx="647640" cy="51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1b1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Скругленный прямоугольник 26"/>
          <p:cNvSpPr/>
          <p:nvPr/>
        </p:nvSpPr>
        <p:spPr>
          <a:xfrm>
            <a:off x="6329520" y="3713040"/>
            <a:ext cx="2490480" cy="1776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5c64b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Казахстан – 4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 – 70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аина – 16 МТК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Полилиния 28"/>
          <p:cNvSpPr/>
          <p:nvPr/>
        </p:nvSpPr>
        <p:spPr>
          <a:xfrm>
            <a:off x="3419640" y="2052720"/>
            <a:ext cx="2592360" cy="888840"/>
          </a:xfrm>
          <a:prstGeom prst="pie">
            <a:avLst/>
          </a:prstGeom>
          <a:solidFill>
            <a:srgbClr val="234f7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4640" rIns="134640" tIns="113760" bIns="13464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МТК с размещенной информацией об организациях, представляющих государство в МТК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Полилиния 29"/>
          <p:cNvSpPr/>
          <p:nvPr/>
        </p:nvSpPr>
        <p:spPr>
          <a:xfrm>
            <a:off x="6184800" y="2052720"/>
            <a:ext cx="2592360" cy="888840"/>
          </a:xfrm>
          <a:prstGeom prst="pie">
            <a:avLst/>
          </a:prstGeom>
          <a:solidFill>
            <a:srgbClr val="234f7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4640" rIns="134640" tIns="113760" bIns="13464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МТК с размещенной информацией об области деятельности МТК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Скругленный прямоугольник 30"/>
          <p:cNvSpPr/>
          <p:nvPr/>
        </p:nvSpPr>
        <p:spPr>
          <a:xfrm>
            <a:off x="455760" y="3706920"/>
            <a:ext cx="2631960" cy="1797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5c64b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Казахстан – 4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 – 78 МТК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аина – 17 МТК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Стрелка вниз 31"/>
          <p:cNvSpPr/>
          <p:nvPr/>
        </p:nvSpPr>
        <p:spPr>
          <a:xfrm>
            <a:off x="7308720" y="2992320"/>
            <a:ext cx="648000" cy="51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1b1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Левая фигурная скобка 18"/>
          <p:cNvSpPr/>
          <p:nvPr/>
        </p:nvSpPr>
        <p:spPr>
          <a:xfrm rot="16200000">
            <a:off x="1558800" y="4408560"/>
            <a:ext cx="355680" cy="2517840"/>
          </a:xfrm>
          <a:custGeom>
            <a:avLst/>
            <a:gdLst>
              <a:gd name="textAreaLeft" fmla="*/ 227160 w 355680"/>
              <a:gd name="textAreaRight" fmla="*/ 356040 w 355680"/>
              <a:gd name="textAreaTop" fmla="*/ 66960 h 2517840"/>
              <a:gd name="textAreaBottom" fmla="*/ 2450880 h 25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2"/>
                  <a:pt x="10800" y="1844"/>
                </a:cubicBezTo>
                <a:lnTo>
                  <a:pt x="10800" y="9324"/>
                </a:lnTo>
                <a:cubicBezTo>
                  <a:pt x="10800" y="10246"/>
                  <a:pt x="5400" y="11168"/>
                  <a:pt x="0" y="11168"/>
                </a:cubicBezTo>
                <a:cubicBezTo>
                  <a:pt x="5400" y="11168"/>
                  <a:pt x="10800" y="12090"/>
                  <a:pt x="10800" y="13012"/>
                </a:cubicBezTo>
                <a:lnTo>
                  <a:pt x="10800" y="19756"/>
                </a:lnTo>
                <a:cubicBezTo>
                  <a:pt x="10800" y="2067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2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Прямоугольник 16"/>
          <p:cNvSpPr/>
          <p:nvPr/>
        </p:nvSpPr>
        <p:spPr>
          <a:xfrm>
            <a:off x="455760" y="595008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го – 99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Левая фигурная скобка 18"/>
          <p:cNvSpPr/>
          <p:nvPr/>
        </p:nvSpPr>
        <p:spPr>
          <a:xfrm rot="16200000">
            <a:off x="4527000" y="4423320"/>
            <a:ext cx="355320" cy="2516040"/>
          </a:xfrm>
          <a:custGeom>
            <a:avLst/>
            <a:gdLst>
              <a:gd name="textAreaLeft" fmla="*/ 227160 w 355320"/>
              <a:gd name="textAreaRight" fmla="*/ 355680 w 355320"/>
              <a:gd name="textAreaTop" fmla="*/ 66960 h 2516040"/>
              <a:gd name="textAreaBottom" fmla="*/ 2449080 h 25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3"/>
                  <a:pt x="10800" y="1846"/>
                </a:cubicBezTo>
                <a:lnTo>
                  <a:pt x="10800" y="9322"/>
                </a:lnTo>
                <a:cubicBezTo>
                  <a:pt x="10800" y="10245"/>
                  <a:pt x="5400" y="11168"/>
                  <a:pt x="0" y="11168"/>
                </a:cubicBezTo>
                <a:cubicBezTo>
                  <a:pt x="5400" y="11168"/>
                  <a:pt x="10800" y="12091"/>
                  <a:pt x="10800" y="13014"/>
                </a:cubicBezTo>
                <a:lnTo>
                  <a:pt x="10800" y="19754"/>
                </a:lnTo>
                <a:cubicBezTo>
                  <a:pt x="10800" y="206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2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Прямоугольник 19"/>
          <p:cNvSpPr/>
          <p:nvPr/>
        </p:nvSpPr>
        <p:spPr>
          <a:xfrm>
            <a:off x="3424320" y="596412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го – 59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Левая фигурная скобка 20"/>
          <p:cNvSpPr/>
          <p:nvPr/>
        </p:nvSpPr>
        <p:spPr>
          <a:xfrm rot="16200000">
            <a:off x="7396920" y="4422960"/>
            <a:ext cx="355320" cy="2516400"/>
          </a:xfrm>
          <a:custGeom>
            <a:avLst/>
            <a:gdLst>
              <a:gd name="textAreaLeft" fmla="*/ 227160 w 355320"/>
              <a:gd name="textAreaRight" fmla="*/ 355680 w 355320"/>
              <a:gd name="textAreaTop" fmla="*/ 66960 h 2516400"/>
              <a:gd name="textAreaBottom" fmla="*/ 2449440 h 251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3"/>
                  <a:pt x="10800" y="1846"/>
                </a:cubicBezTo>
                <a:lnTo>
                  <a:pt x="10800" y="9322"/>
                </a:lnTo>
                <a:cubicBezTo>
                  <a:pt x="10800" y="10245"/>
                  <a:pt x="5400" y="11168"/>
                  <a:pt x="0" y="11168"/>
                </a:cubicBezTo>
                <a:cubicBezTo>
                  <a:pt x="5400" y="11168"/>
                  <a:pt x="10800" y="12091"/>
                  <a:pt x="10800" y="13014"/>
                </a:cubicBezTo>
                <a:lnTo>
                  <a:pt x="10800" y="19754"/>
                </a:lnTo>
                <a:cubicBezTo>
                  <a:pt x="10800" y="206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2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Прямоугольник 21"/>
          <p:cNvSpPr/>
          <p:nvPr/>
        </p:nvSpPr>
        <p:spPr>
          <a:xfrm>
            <a:off x="6353280" y="596412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го – 90 МТК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441360" y="2589120"/>
            <a:ext cx="836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72c62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Номер слайда 6"/>
          <p:cNvSpPr/>
          <p:nvPr/>
        </p:nvSpPr>
        <p:spPr>
          <a:xfrm>
            <a:off x="8057160" y="-3672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0C9B-55D3-429E-BDD1-538B03C6595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0:07:08Z</dcterms:created>
  <dc:creator>client906_4</dc:creator>
  <dc:description/>
  <dc:language>en-US</dc:language>
  <cp:lastModifiedBy>А Сагимбекова</cp:lastModifiedBy>
  <cp:lastPrinted>2015-06-15T08:59:32Z</cp:lastPrinted>
  <dcterms:modified xsi:type="dcterms:W3CDTF">2015-06-15T09:03:56Z</dcterms:modified>
  <cp:revision>337</cp:revision>
  <dc:subject/>
  <dc:title>Нормативно-правовая база  Таможенного союза  в области технического регулирования. Технические регламенты Таможенного союза</dc:title>
</cp:coreProperties>
</file>